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ED5-6222-438A-A39C-0EE306B4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3A8-B48D-44DA-87D8-330A55E5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5CA-EEF2-497A-82B5-5DE73256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18C-30E0-4944-B142-2A75B10C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5A8-6216-48D7-8D2F-FF84A783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FAE-C746-4C8F-A6BF-9D06264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AB7-E8CF-46E3-91BC-6D13C093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BC8-C8E5-45EA-AE0F-6581AB5B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0A0-8BF6-42C7-86BB-D6A830D9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1B0-3E50-4062-8638-012F5BB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B4E-2562-4544-A423-4C06202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A52-DF6E-4239-A5AA-75B077C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DE35-21E4-4DAC-A5F8-18DE7AEF0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831960"/>
            <a:ext cx="761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initial axisymmetric cyclonic vortex on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plane located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.5°N in a quiescent, Jordan-sounding environment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stant sea surface temperature of 29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itial mass and wind fields obtained by solving the nonlin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lance equation for the given tangential wind field of the ini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yclonic vo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uadrupely nested with one-way feedback: horizontal re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 54, 18, 6, and 2 km with 35 vertical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crophyiscs: the WSM6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BL physics: the YSU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mulus parameterization not activated on all the g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-D oceanic mixed layer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liminary Results from an Idealized ARW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ame idealized initialization procedure is being tested in the HWRFX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 the purpose of inter-model comparis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17680" y="6488280"/>
            <a:ext cx="32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: J.-W. Bao and S. A Mich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884" t="16638" r="7764" b="16638"/>
          <a:stretch/>
        </p:blipFill>
        <p:spPr>
          <a:xfrm>
            <a:off x="76320" y="990720"/>
            <a:ext cx="4589280" cy="4698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7884" t="17823" r="7764" b="17003"/>
          <a:stretch/>
        </p:blipFill>
        <p:spPr>
          <a:xfrm>
            <a:off x="4419720" y="1066680"/>
            <a:ext cx="4589280" cy="4591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638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imuthally averaged tangential wind component: the contour interval is 4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17680" y="6488280"/>
            <a:ext cx="32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: J.-W. Bao and S. A Mich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884" t="16638" r="7764" b="16638"/>
          <a:stretch/>
        </p:blipFill>
        <p:spPr>
          <a:xfrm>
            <a:off x="38160" y="914400"/>
            <a:ext cx="4589280" cy="469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7884" t="16638" r="7764" b="17350"/>
          <a:stretch/>
        </p:blipFill>
        <p:spPr>
          <a:xfrm>
            <a:off x="4554360" y="914400"/>
            <a:ext cx="4589640" cy="464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38680"/>
            <a:ext cx="92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ours: azimuthally averaged radial component with 2 m/s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 shades: synthetic radar reflectivity with 4 dBZ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17680" y="6488280"/>
            <a:ext cx="323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: J.-W. Bao and S. A Mich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3:57:13Z</dcterms:created>
  <dc:creator>Jian-Wen Bao</dc:creator>
  <dc:description/>
  <dc:language>en-US</dc:language>
  <cp:lastModifiedBy>gopal</cp:lastModifiedBy>
  <dcterms:modified xsi:type="dcterms:W3CDTF">2009-08-19T23:43:49Z</dcterms:modified>
  <cp:revision>17</cp:revision>
  <dc:subject/>
  <dc:title>Slide 1</dc:title>
</cp:coreProperties>
</file>